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0760" y="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62000" y="703440"/>
            <a:ext cx="463536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883116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0760" y="883116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400EDC-8E84-4BEF-99DE-951095CC786B}" type="slidenum"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étköznapi példám : notesz - menedzser kalkulátor - számítógé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4 szintű üzenetrögzít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rtley H=k(szóhossz)*log n(elemek szá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00 krumpli mennyiségének a tárolása babszemek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00as alap : 100 krump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0es : 10e2 (100): 2*10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7es : 7e3 (343)=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6os : 6e3 (216)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5ös : 5e3 (125)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4es : 4e4 (256)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3as : 3e5 (243)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es : 2e7 (128)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4e3 (64)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3e3 (21)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e5 (32)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gy kézen meddig tudunk számol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00101.110 = 5,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3,25= 01101.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gy kézen meddig tudunk számol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gyes komlemens képzés : 0&lt;-&gt;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ettes komplemens képzés : jobbról-balra az első egyesig ugyan az, majd 1&lt;-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ülönbségek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űvelet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brázolható tartomá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0-ák szá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problémák műveletekke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lul - felöl csordulás, kerekí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utolsó tetrád az előj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100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101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löl  feltöltve ha kell : 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[Cserny pp78] ASCII táb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[Számítástechnika 2.6.2 pp47] EBCDIC táb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lyen típusú az ada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biztonság, védelem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w / sw kezelé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űvletek késöbb az ALU-ná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utasítás tárolási mód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 kézen meddig tudunk számolni ? (lebegőpontos, nem feltétlen bináris 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jelrendszer jelei sorrendben :  .  )  O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)  X  .  = ? =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zámjegy - véges számú különbözö jel, mennyiséget jelö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zámrendszer alapja - számjegyek száma (base, rad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zámjegyek „egymásmellé” írása - 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gy számjegy a számon belüli relatív helyzete súlyozva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serny könyvben más van 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példák, példá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5B1-20CE-45D6-BDFA-623AC135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F6E-8AAC-4671-8B61-C23F4EF4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653-8A6A-435B-B719-29320381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319-B84D-4B29-886D-285D05D3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D59-19F9-4D2B-84DB-A6D49016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391-7AFF-496A-9FBF-FA3D5511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DFD-EAA8-496D-A145-59689597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639-3587-4FE1-B457-FAE42905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809-19AC-420B-9E5F-41E079F3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E32-011B-4EC4-B15B-EA3DC936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6D1-9D3D-46D6-83B6-11836086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7F2-1352-4D0C-BE89-E4745C50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C16865-D728-477D-A8EC-D73ACF5642FD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 tárolós egyszerű logikai gép vázlat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„feltételes elágazás”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6560" y="2597040"/>
            <a:ext cx="1434960" cy="173988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119400" y="2211480"/>
            <a:ext cx="0" cy="1063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6560" y="3206880"/>
            <a:ext cx="1434960" cy="444240"/>
          </a:xfrm>
          <a:prstGeom prst="rect">
            <a:avLst/>
          </a:prstGeom>
          <a:solidFill>
            <a:srgbClr val="99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9840" y="3138480"/>
            <a:ext cx="132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p x y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35640" y="2376360"/>
            <a:ext cx="1510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árol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21280" y="2451240"/>
            <a:ext cx="1076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árol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3080" y="3292560"/>
            <a:ext cx="1510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űvele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1480" y="4281480"/>
            <a:ext cx="1466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űve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álasz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07040" y="5111640"/>
            <a:ext cx="901800" cy="16639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7040" y="5340240"/>
            <a:ext cx="901800" cy="2923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07040" y="6026040"/>
            <a:ext cx="901800" cy="2923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883560" y="4273560"/>
            <a:ext cx="1511280" cy="673200"/>
          </a:xfrm>
          <a:custGeom>
            <a:avLst/>
            <a:gdLst>
              <a:gd name="textAreaLeft" fmla="*/ 331920 w 1511280"/>
              <a:gd name="textAreaRight" fmla="*/ 1179360 w 1511280"/>
              <a:gd name="textAreaTop" fmla="*/ 147960 h 673200"/>
              <a:gd name="textAreaBottom" fmla="*/ 52524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37320" y="5486400"/>
            <a:ext cx="144468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13280" y="6172200"/>
            <a:ext cx="220680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28680" y="3660840"/>
            <a:ext cx="0" cy="1063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182000" y="4954320"/>
            <a:ext cx="0" cy="530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131920" y="4724280"/>
            <a:ext cx="487368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920" y="3660840"/>
            <a:ext cx="0" cy="1825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4480" y="3660840"/>
            <a:ext cx="0" cy="2511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3160" y="5486400"/>
            <a:ext cx="26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7720" y="6172200"/>
            <a:ext cx="23590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615080" y="1829880"/>
            <a:ext cx="0" cy="24354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60520" y="1828800"/>
            <a:ext cx="52545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1720" y="1832040"/>
            <a:ext cx="0" cy="3654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020080" y="4954680"/>
            <a:ext cx="0" cy="1216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 rot="16200000">
            <a:off x="1753200" y="1834920"/>
            <a:ext cx="749520" cy="444600"/>
          </a:xfrm>
          <a:custGeom>
            <a:avLst/>
            <a:gdLst>
              <a:gd name="textAreaLeft" fmla="*/ 164520 w 749520"/>
              <a:gd name="textAreaRight" fmla="*/ 585000 w 749520"/>
              <a:gd name="textAreaTop" fmla="*/ 97560 h 444600"/>
              <a:gd name="textAreaBottom" fmla="*/ 34704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0520" y="2209680"/>
            <a:ext cx="75888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445760" y="2057400"/>
            <a:ext cx="453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2880" y="2060640"/>
            <a:ext cx="0" cy="17492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6120" y="3809880"/>
            <a:ext cx="453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386000"/>
            <a:ext cx="1646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övetkez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í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57040" y="5500800"/>
            <a:ext cx="19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adat cí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7040" y="6186600"/>
            <a:ext cx="19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adat cí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32680" y="5500800"/>
            <a:ext cx="113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a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8640" y="6186600"/>
            <a:ext cx="113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a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355560" y="3279600"/>
            <a:ext cx="60660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70160" y="3355920"/>
            <a:ext cx="530280" cy="1749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6200" y="130968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edmé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445-EDC9-4D5B-B52C-9C59E7E7C4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atábrázolás kritérium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tékony táro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yértelműség (könnyen értelmezhető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yszerű, gyors műveletvégz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D5D-8C24-4A54-BBDE-01A942904A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náris adatfeldolgoz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 : információ feldolgozó eszkö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formáció : numerikus / nem-numer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náris számábrázolá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ind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6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-k és </a:t>
            </a:r>
            <a:r>
              <a:rPr b="0" lang="hu-HU" sz="6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-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orozatával van ábrázol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BF8-3C28-45B2-95E7-C8D4A74DC7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ért binári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ért a kettes számrendszert használjuk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kai okok 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jobban megkülönböztethető állapoto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vi, matematikai okok 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tömörség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hány darab számjegy, hány féle számje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EF4-F709-46AE-B87A-E1A8C4D5DD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t = (binary digit) az információ tárolás legkisebb egysé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bit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= 1 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by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024byte =  2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byte = 1Kilobyte = 1Kb = 8Kb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024 Kb = 1Megabyte = 1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gy adott gépen : „n” byte = 1 szó (wor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(általában n = 2 vagy 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Bit, byte, Kb, Mb, sz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328-50C4-4D70-9E67-AE7D15076E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számok tárolás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Fixpontos tárolá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4120" y="2103480"/>
            <a:ext cx="169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észek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1880" y="4313160"/>
            <a:ext cx="135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örtek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2625840"/>
          <a:ext cx="4581360" cy="105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625840"/>
                    <a:ext cx="4581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470200" y="2727360"/>
            <a:ext cx="418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14400" y="4835520"/>
          <a:ext cx="4581360" cy="105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835520"/>
                    <a:ext cx="4581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72760" y="4921200"/>
            <a:ext cx="418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7920" y="3581280"/>
            <a:ext cx="380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árolt számérték : 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2880" y="5837400"/>
            <a:ext cx="5785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árolt számérték : 11/16= 0.687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4480" y="3787920"/>
            <a:ext cx="224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ettedesp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8240" y="3592440"/>
            <a:ext cx="377640" cy="378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781680" y="3176640"/>
                <a:ext cx="20574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705720" y="4952880"/>
                <a:ext cx="1904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6000480" y="1979640"/>
            <a:ext cx="29390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: a tárolócell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(bitek) szá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CD8-3EDB-4E45-9978-9CC17A54FC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számok tárolása, példá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2920" y="1798560"/>
            <a:ext cx="451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gész, 2-es számrendszer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4282920"/>
            <a:ext cx="965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ört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2320920"/>
          <a:ext cx="4581360" cy="105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20920"/>
                    <a:ext cx="4581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69880" y="4759200"/>
          <a:ext cx="4581720" cy="105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880" y="4759200"/>
                    <a:ext cx="45817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228240" y="4844880"/>
            <a:ext cx="418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2120" y="3352680"/>
            <a:ext cx="380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árolt számérték : 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320" y="5837400"/>
            <a:ext cx="452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árolt számérték : 0.687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410080" y="1447920"/>
                <a:ext cx="3505320" cy="32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715000" y="5181480"/>
                <a:ext cx="1517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687560" y="2406600"/>
            <a:ext cx="418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E85-27FE-496E-91B5-F5B2562682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lőjel és abszolút érték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ábrázolás 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ő bit 0 : pozitív , első bit 1 : negatív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ána az abszolút értek (n-1 bit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és negatív egész számok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11160" y="3932280"/>
            <a:ext cx="228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101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0320" y="5349960"/>
            <a:ext cx="151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őjelb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288880" y="5261040"/>
            <a:ext cx="377640" cy="377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303280" y="5640120"/>
            <a:ext cx="361800" cy="4539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200" y="4724280"/>
            <a:ext cx="902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66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560" y="6019920"/>
            <a:ext cx="794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66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9200" y="3916440"/>
            <a:ext cx="128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51520" y="601992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imes New Roman CE"/>
              </a:rPr>
              <a:t>| 1 |</a:t>
            </a:r>
            <a:r>
              <a:rPr b="1" lang="en-US" sz="3200" spc="-1" strike="noStrike">
                <a:solidFill>
                  <a:srgbClr val="ffffff"/>
                </a:solidFill>
                <a:latin typeface="Times New Roman CE"/>
              </a:rPr>
              <a:t> 0 | 1 | 0 | 1 | 1 | 0 | 0 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51520" y="472428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imes New Roman CE"/>
              </a:rPr>
              <a:t>| 0 |</a:t>
            </a:r>
            <a:r>
              <a:rPr b="1" lang="en-US" sz="3200" spc="-1" strike="noStrike">
                <a:solidFill>
                  <a:srgbClr val="ffffff"/>
                </a:solidFill>
                <a:latin typeface="Times New Roman CE"/>
              </a:rPr>
              <a:t> 0 | 1 | 0 | 1 | 1 | 0 | 0 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6F9-26F1-4771-8866-00444EF842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1-es komplemen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és negatív egész számok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11160" y="3780000"/>
            <a:ext cx="228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101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9200" y="3763800"/>
            <a:ext cx="128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895480" y="1905120"/>
                <a:ext cx="41911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6483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88760" y="5227560"/>
            <a:ext cx="52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7600" y="5105520"/>
            <a:ext cx="12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épz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97200" y="2789280"/>
            <a:ext cx="170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ülön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63720" y="2057400"/>
            <a:ext cx="149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 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5160" y="4495680"/>
            <a:ext cx="4295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+4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00101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10100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F4D-BB93-4F74-86C5-4845C19DB5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2-es komplemen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és negatív egész számok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7680" y="3124080"/>
            <a:ext cx="128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48120" y="1905120"/>
                <a:ext cx="4038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484920" y="5562720"/>
            <a:ext cx="56689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épzé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 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17560" y="1981080"/>
            <a:ext cx="149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 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44920" y="2743200"/>
            <a:ext cx="170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ülön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2880" y="3657600"/>
            <a:ext cx="42955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+4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00101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10100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1010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8C5-94B0-423B-ADB5-CF7A57D4A9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többlete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: A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= A + t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hol „t” a több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és negatív egész számok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39840" y="4343400"/>
            <a:ext cx="6586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4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„128+44”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7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101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4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„128 - 44”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8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01010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0720" y="3505320"/>
            <a:ext cx="3889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 128 többletesr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DBF-B16E-419A-BEF1-36AD78F721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mann elvű számítógép 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áris (digitál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ktron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ső programvezér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ória tárolja a programot és az adatok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ros feldolg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0EE-8B27-48AA-AC97-05503B9625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és negatív egész számok tárolása, példá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60480" y="1981080"/>
          <a:ext cx="7218360" cy="41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981080"/>
                    <a:ext cx="721836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F02-D7BE-4D38-AC04-F0B32A7299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k lebegőpontos tárolás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I/IEEE 75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2666880"/>
            <a:ext cx="800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mantissza előjele (0 ha pozití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mantissza törtrésze (egyesekre normalizál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karakterisztika érté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eltolás (többl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5920" y="4876920"/>
            <a:ext cx="6132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előjel karakterisztika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                 mantiss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  </a:t>
            </a:r>
            <a:r>
              <a:rPr b="0" lang="hu-HU" sz="2800" spc="-1" strike="noStrike">
                <a:solidFill>
                  <a:srgbClr val="ccff99"/>
                </a:solidFill>
                <a:latin typeface="Times New Roman CE"/>
              </a:rPr>
              <a:t> </a:t>
            </a:r>
            <a:r>
              <a:rPr b="0" lang="hu-HU" sz="2800" spc="-1" strike="noStrike">
                <a:solidFill>
                  <a:srgbClr val="ccff99"/>
                </a:solidFill>
                <a:latin typeface="Times New Roman CE"/>
              </a:rPr>
              <a:t>S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 |    </a:t>
            </a:r>
            <a:r>
              <a:rPr b="0" lang="hu-HU" sz="3600" spc="-1" strike="noStrike">
                <a:solidFill>
                  <a:srgbClr val="ffff00"/>
                </a:solidFill>
                <a:latin typeface="Times New Roman CE"/>
              </a:rPr>
              <a:t>(p+e)    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|                       </a:t>
            </a:r>
            <a:r>
              <a:rPr b="0" lang="hu-HU" sz="3600" spc="-1" strike="noStrike">
                <a:solidFill>
                  <a:srgbClr val="ff5050"/>
                </a:solidFill>
                <a:latin typeface="Times New Roman CE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570960" y="5447880"/>
            <a:ext cx="457200" cy="381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1828800" y="4647960"/>
            <a:ext cx="457200" cy="1981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5638680" y="2895120"/>
            <a:ext cx="457200" cy="5486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57960" y="1752480"/>
            <a:ext cx="63964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imes New Roman CE"/>
              </a:rPr>
              <a:t>A = </a:t>
            </a:r>
            <a:r>
              <a:rPr b="0" lang="hu-HU" sz="4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hu-HU" sz="4400" spc="-1" strike="noStrike">
                <a:solidFill>
                  <a:srgbClr val="ffffff"/>
                </a:solidFill>
                <a:latin typeface="Times New Roman CE"/>
              </a:rPr>
              <a:t>a*2</a:t>
            </a:r>
            <a:r>
              <a:rPr b="0" lang="hu-HU" sz="4400" spc="-1" strike="noStrike" baseline="50000">
                <a:solidFill>
                  <a:srgbClr val="ffffff"/>
                </a:solidFill>
                <a:latin typeface="Times New Roman CE"/>
              </a:rPr>
              <a:t>q </a:t>
            </a:r>
            <a:r>
              <a:rPr b="0" lang="hu-HU" sz="4400" spc="-1" strike="noStrike">
                <a:solidFill>
                  <a:srgbClr val="ffffff"/>
                </a:solidFill>
                <a:latin typeface="Times New Roman CE"/>
              </a:rPr>
              <a:t>= (-1)</a:t>
            </a:r>
            <a:r>
              <a:rPr b="0" lang="hu-HU" sz="4400" spc="-1" strike="noStrike" baseline="50000">
                <a:solidFill>
                  <a:srgbClr val="ccff99"/>
                </a:solidFill>
                <a:latin typeface="Times New Roman CE"/>
              </a:rPr>
              <a:t>s</a:t>
            </a:r>
            <a:r>
              <a:rPr b="0" lang="hu-HU" sz="4400" spc="-1" strike="noStrike" baseline="50000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u-HU" sz="4400" spc="-1" strike="noStrike">
                <a:solidFill>
                  <a:srgbClr val="ffffff"/>
                </a:solidFill>
                <a:latin typeface="Times New Roman CE"/>
              </a:rPr>
              <a:t>* (1.</a:t>
            </a:r>
            <a:r>
              <a:rPr b="0" lang="hu-HU" sz="4400" spc="-1" strike="noStrike">
                <a:solidFill>
                  <a:srgbClr val="ff5050"/>
                </a:solidFill>
                <a:latin typeface="Times New Roman CE"/>
              </a:rPr>
              <a:t>b</a:t>
            </a:r>
            <a:r>
              <a:rPr b="0" lang="hu-HU" sz="4400" spc="-1" strike="noStrike">
                <a:solidFill>
                  <a:srgbClr val="ffffff"/>
                </a:solidFill>
                <a:latin typeface="Times New Roman CE"/>
              </a:rPr>
              <a:t>)*2</a:t>
            </a:r>
            <a:r>
              <a:rPr b="0" lang="hu-HU" sz="4400" spc="-1" strike="noStrike" baseline="50000">
                <a:solidFill>
                  <a:srgbClr val="ffff00"/>
                </a:solidFill>
                <a:latin typeface="Times New Roman CE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2D0-C189-4396-8196-124FE62F22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k lebegőpontos tárolás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I/IEEE 75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6320" y="1828800"/>
                <a:ext cx="9016920" cy="452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jellemz</m:t>
                          </m: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gyszere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ontossg</m:t>
                              </m:r>
                            </m:e>
                          </m:eqAr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upla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ontossg</m:t>
                              </m:r>
                            </m:e>
                          </m:eqAr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gyszere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ontossg</m:t>
                              </m:r>
                            </m:e>
                          </m:eqAr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hossz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bit</m:t>
                          </m:r>
                          <m:r>
                            <m:t xml:space="preserve">]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28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jelbit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bit</m:t>
                          </m:r>
                          <m:r>
                            <m:t xml:space="preserve">]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karakterisztika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bit</m:t>
                          </m:r>
                          <m:r>
                            <m:t xml:space="preserve">]</m:t>
                          </m:r>
                        </m:e>
                        <m:e>
                          <m:r>
                            <m:t xml:space="preserve">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ntissza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bit</m:t>
                          </m:r>
                          <m:r>
                            <m:t xml:space="preserve">]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12</m:t>
                          </m:r>
                        </m:e>
                      </m:mr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rakterisztika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bblet</m:t>
                              </m:r>
                            </m:e>
                          </m:eqAr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2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2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6383</m:t>
                          </m:r>
                        </m:e>
                      </m:mr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ecimli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zmtartomny</m:t>
                              </m:r>
                            </m:e>
                          </m:eqAr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±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</m:t>
                                  </m:r>
                                </m:sup>
                              </m:sSup>
                            </m:e>
                          </m:eqAr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±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8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8</m:t>
                                  </m:r>
                                </m:sup>
                              </m:sSup>
                            </m:e>
                          </m:eqAr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±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93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932</m:t>
                                  </m:r>
                                </m:sup>
                              </m:sSup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FD4-4D56-402D-AE83-017CEE2B7C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k lebegőpontos tárolás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I/IEEE 754, pél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752480"/>
            <a:ext cx="883944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-13,375  :  13 + 0,375 :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101,011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egatív szám = előjel :    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ccff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gyesre normalizálva: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,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101011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*2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ntissza (szignifikandus):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101011000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27 többletes karakterisztika = 130 :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10000010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4876920"/>
            <a:ext cx="8264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előjel karakterisztika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                 mantiss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  </a:t>
            </a:r>
            <a:r>
              <a:rPr b="0" lang="hu-HU" sz="2800" spc="-1" strike="noStrike">
                <a:solidFill>
                  <a:srgbClr val="ccff99"/>
                </a:solidFill>
                <a:latin typeface="Times New Roman CE"/>
              </a:rPr>
              <a:t> </a:t>
            </a:r>
            <a:r>
              <a:rPr b="0" lang="hu-HU" sz="3600" spc="-1" strike="noStrike">
                <a:solidFill>
                  <a:srgbClr val="ccff99"/>
                </a:solidFill>
                <a:latin typeface="Times New Roman CE"/>
              </a:rPr>
              <a:t>1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u-HU" sz="3600" spc="-1" strike="noStrike">
                <a:solidFill>
                  <a:srgbClr val="ffff00"/>
                </a:solidFill>
                <a:latin typeface="Times New Roman CE"/>
              </a:rPr>
              <a:t>1000001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|</a:t>
            </a:r>
            <a:r>
              <a:rPr b="0" lang="hu-HU" sz="3600" spc="-1" strike="noStrike">
                <a:solidFill>
                  <a:srgbClr val="ffff00"/>
                </a:solidFill>
                <a:latin typeface="Times New Roman CE"/>
              </a:rPr>
              <a:t>0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u-HU" sz="3600" spc="-1" strike="noStrike">
                <a:solidFill>
                  <a:srgbClr val="ff5050"/>
                </a:solidFill>
                <a:latin typeface="Times New Roman CE"/>
              </a:rPr>
              <a:t>1010110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|</a:t>
            </a:r>
            <a:r>
              <a:rPr b="0" lang="hu-HU" sz="3600" spc="-1" strike="noStrike">
                <a:solidFill>
                  <a:srgbClr val="ff5050"/>
                </a:solidFill>
                <a:latin typeface="Times New Roman CE"/>
              </a:rPr>
              <a:t>00000000</a:t>
            </a:r>
            <a:r>
              <a:rPr b="0" lang="en-US" sz="3600" spc="-1" strike="noStrike">
                <a:solidFill>
                  <a:srgbClr val="ffffff"/>
                </a:solidFill>
                <a:latin typeface="Times New Roman CE"/>
              </a:rPr>
              <a:t>|</a:t>
            </a:r>
            <a:r>
              <a:rPr b="0" lang="hu-HU" sz="3600" spc="-1" strike="noStrike">
                <a:solidFill>
                  <a:srgbClr val="ff5050"/>
                </a:solidFill>
                <a:latin typeface="Times New Roman CE"/>
              </a:rPr>
              <a:t>00000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570960" y="5447880"/>
            <a:ext cx="457200" cy="381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1828800" y="4647960"/>
            <a:ext cx="457200" cy="1981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638680" y="2895120"/>
            <a:ext cx="457200" cy="5486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5FF-D682-4CC4-95E0-3902584827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k lebegőpontos tárolás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I/IEEE 754, jellemző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920960"/>
          <a:ext cx="893916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20960"/>
                    <a:ext cx="89391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2AC-F598-46FF-A2DC-B9A23DD04E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BCD</a:t>
            </a:r>
            <a:br>
              <a:rPr sz="4400"/>
            </a:b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(Binary Coded Decima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240" y="2103480"/>
            <a:ext cx="18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7680" y="1752480"/>
            <a:ext cx="1181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6000" y="2666880"/>
            <a:ext cx="577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9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7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0001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1001 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0111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00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1.byte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2.by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1637640" y="308592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6209640" y="308592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3161880" y="308592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4685760" y="308592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 rot="16200000">
            <a:off x="2399760" y="3543120"/>
            <a:ext cx="457200" cy="2667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 rot="16200000">
            <a:off x="5448240" y="354348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0E6-55B9-4CAB-AB9E-5D276626AD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Gray kó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9400" y="5943600"/>
            <a:ext cx="669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lajdonsága: mindig csak 1 bit változ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1600200"/>
            <a:ext cx="291960" cy="3797280"/>
          </a:xfrm>
          <a:prstGeom prst="downArrow">
            <a:avLst>
              <a:gd name="adj1" fmla="val 50000"/>
              <a:gd name="adj2" fmla="val 82011"/>
            </a:avLst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9880" y="1295280"/>
            <a:ext cx="394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Decimális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Bináris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G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00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01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2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10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3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11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4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00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5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01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6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10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7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11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… 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…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6B1-43F9-46BF-8FC4-6FE2625D52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xadecimális számábrázo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2800" y="1523880"/>
            <a:ext cx="2009520" cy="49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..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29280" y="2712960"/>
            <a:ext cx="3641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xadecimális kód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820960" y="3125880"/>
            <a:ext cx="530280" cy="301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69640" y="3733920"/>
            <a:ext cx="128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59960" y="4267080"/>
            <a:ext cx="471312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107 = 0110 1011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 CE"/>
              </a:rPr>
              <a:t>2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 = 6B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 CE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             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6       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4952880" y="472428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 rot="16200000">
            <a:off x="6019920" y="472428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DDF-EEC0-43A4-8160-A7A5523CDF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fanumerikus karakterábrázo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BCDIC (Extended Binary Coded Decimal code for Informations Change) zónarész + számjegyré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ASCII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(American Standard Code for Information Interchange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ISO 7 bites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etűk, számok, írásjelek, vezérlő karakterek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éldául : 32=„ ” (szóköz),  48=„0”, 65=„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9E8-D7AF-4486-AA41-7755186917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gyéb (öndefiniáló) adattárolási mód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elölt adatábrázolás (tagged storage) : + adat típus, felhasználás mód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eszkriptoros tárolási forma (data descriptor) : + hozzáférési jogok, cé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összetett strukturális form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A06-031C-4080-AAD7-79C5CD93A8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mann elvű számítógép I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(központi egység) része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vezérlõ egység (control unit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z aritmetikai és logikai egység (ALU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tár (memory) 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ki/bemeneti egysége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indezek teljesen 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elektronikusak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legyenek és 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bináris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számrendszert használjanak. Az ALU képes legyen elvégezni az alapvetõ logikai és aritmetikai mûveleteket (néhány elemi matematikai és logikai mûvelet segítségével elvileg bármely számítási feladat elvégezhetõ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Tárolt program elvû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(a program és az adatok ugyanabban a belsõ tárban tárolódnak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vezérlõ egység határozza meg a 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mûködést a tárból kiolvasott utasítások alapján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, emberi beavatkozás nélkü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A2A-42BF-4D09-BDB3-91D868280A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attárolási módok összefogla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11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kféle” kódo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den” a kódolástól függ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ábrázolható tartomány, műveletek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152360" y="3933720"/>
            <a:ext cx="1970280" cy="21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923-D663-4BEB-8A97-5177261E1C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/16 és 1/10 a kettes számrendszerb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3440" y="1828800"/>
            <a:ext cx="2451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00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0,000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0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0,00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0,0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10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0,10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,00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905120"/>
            <a:ext cx="2590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1/16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= ?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2514600"/>
            <a:ext cx="2590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= 0,0001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129280"/>
            <a:ext cx="2590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1/1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= ?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5738760"/>
            <a:ext cx="624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= 0,000110011001100110...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5815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080" y="6172200"/>
            <a:ext cx="49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végtelen szakaszos kettedes tört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354-967A-4017-9935-41CCD7CC6FB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0,1+0,1+0,1+ 0,1+0,1+0,1+ 0,1+0,1+0,1+0,1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514600" y="144756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001100110011..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1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0,0001100110011..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1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011001100110..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0,0011001100110..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110011001100..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0,0110011001100..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1100110011000..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8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0,001100110011..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0,111111111111...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(1</a:t>
            </a:r>
            <a:r>
              <a:rPr b="0" lang="en-US" sz="3200" spc="-1" strike="noStrike" baseline="-25000">
                <a:solidFill>
                  <a:srgbClr val="ff505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DFB-AEC7-461C-AA32-5BBA214B4252}" type="slidenum">
              <a:t>3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013120" y="0"/>
            <a:ext cx="5200560" cy="68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AA6-981E-41F0-B97A-B7D3F042D6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gyszerű gép vázl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6560" y="2597040"/>
            <a:ext cx="1434960" cy="410868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119400" y="2209680"/>
            <a:ext cx="0" cy="1067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6560" y="3206880"/>
            <a:ext cx="1434960" cy="444240"/>
          </a:xfrm>
          <a:prstGeom prst="rect">
            <a:avLst/>
          </a:prstGeom>
          <a:solidFill>
            <a:srgbClr val="99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9840" y="3138480"/>
            <a:ext cx="132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p x y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2376360"/>
            <a:ext cx="2649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ogram+ada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3080" y="3292560"/>
            <a:ext cx="1510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űvele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1760" y="4191120"/>
            <a:ext cx="269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űvelet válasz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5257800"/>
            <a:ext cx="1434960" cy="291960"/>
          </a:xfrm>
          <a:prstGeom prst="rect">
            <a:avLst/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5943600"/>
            <a:ext cx="1434960" cy="291960"/>
          </a:xfrm>
          <a:prstGeom prst="rect">
            <a:avLst/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883560" y="4273560"/>
            <a:ext cx="1511280" cy="673200"/>
          </a:xfrm>
          <a:custGeom>
            <a:avLst/>
            <a:gdLst>
              <a:gd name="textAreaLeft" fmla="*/ 332280 w 1511280"/>
              <a:gd name="textAreaRight" fmla="*/ 1179000 w 1511280"/>
              <a:gd name="textAreaTop" fmla="*/ 147960 h 673200"/>
              <a:gd name="textAreaBottom" fmla="*/ 52524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5486400"/>
            <a:ext cx="466740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6172200"/>
            <a:ext cx="520056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8680" y="3657600"/>
            <a:ext cx="0" cy="10666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182000" y="495288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128320" y="4724280"/>
            <a:ext cx="48769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920" y="3657600"/>
            <a:ext cx="0" cy="1828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4480" y="3657600"/>
            <a:ext cx="0" cy="2514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615080" y="1828440"/>
            <a:ext cx="0" cy="2438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356920" y="1828800"/>
            <a:ext cx="52578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020080" y="4952520"/>
            <a:ext cx="0" cy="1219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 rot="16200000">
            <a:off x="1753200" y="1834920"/>
            <a:ext cx="749520" cy="444600"/>
          </a:xfrm>
          <a:custGeom>
            <a:avLst/>
            <a:gdLst>
              <a:gd name="textAreaLeft" fmla="*/ 164880 w 749520"/>
              <a:gd name="textAreaRight" fmla="*/ 584640 w 749520"/>
              <a:gd name="textAreaTop" fmla="*/ 97560 h 444600"/>
              <a:gd name="textAreaBottom" fmla="*/ 34704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57280" y="2209680"/>
            <a:ext cx="7621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42880" y="2057400"/>
            <a:ext cx="4572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2880" y="2057400"/>
            <a:ext cx="0" cy="1752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2880" y="3809880"/>
            <a:ext cx="4572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386000"/>
            <a:ext cx="1646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övetkez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í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520" y="4495680"/>
            <a:ext cx="1131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a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í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240" y="4800600"/>
            <a:ext cx="19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adat cí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520" y="5486400"/>
            <a:ext cx="113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a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520" y="6172200"/>
            <a:ext cx="113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a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52680" y="3276720"/>
            <a:ext cx="609840" cy="609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66200" y="130968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edmé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19520" y="4876560"/>
            <a:ext cx="91440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71600" y="4876560"/>
            <a:ext cx="114300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6E5-7336-45B6-BA9C-149483D8AC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 - számrendsz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adix-weighted positional number system”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számrendszer alapján súlyozott helyiértékes számrendszer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jegy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pld. 0,1,2,3,4,5,6,7,8,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rendszer alapja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pld. 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zokványos 10-es számrendszer (0,1,2,3,4,5,6,7,8,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564,2 = 5*10</a:t>
            </a:r>
            <a:r>
              <a:rPr b="0" lang="hu-HU" sz="4000" spc="-1" strike="noStrike" baseline="5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 + 6*10</a:t>
            </a:r>
            <a:r>
              <a:rPr b="0" lang="hu-HU" sz="4000" spc="-1" strike="noStrike" baseline="5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 + 4*10</a:t>
            </a:r>
            <a:r>
              <a:rPr b="0" lang="hu-HU" sz="4000" spc="-1" strike="noStrike" baseline="5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 + 2*10</a:t>
            </a:r>
            <a:r>
              <a:rPr b="0" lang="hu-HU" sz="4000" spc="-1" strike="noStrike" baseline="5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60D-53D2-41E4-A782-D83A1201C4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at-tárolási formá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treprezentáci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9A9-0A0B-4DAA-A79E-7D716DD5DF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k szokásos írásmódja fixpontos írásmó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6240" y="1965240"/>
            <a:ext cx="61804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írásmó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=(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...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...a 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m-1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2800" y="3276720"/>
            <a:ext cx="3954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hol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,...,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,...,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63160" y="3336840"/>
            <a:ext cx="40834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egyes helyiértéke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ereplő számjegy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laki érték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080" y="4875120"/>
            <a:ext cx="7216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elentése </a:t>
            </a:r>
            <a:r>
              <a:rPr b="0" i="1" lang="hu-HU" sz="3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radix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) alapú számrendszerbe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43800" y="5761080"/>
            <a:ext cx="132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s ah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715000"/>
                <a:ext cx="2814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:</m:t>
                    </m:r>
                    <m:r>
                      <m:t xml:space="preserve">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5800" y="5334120"/>
                <a:ext cx="252720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±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ADC-3153-4B9D-AA02-346EFFC98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begőpontos írásmó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65760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hu-HU" sz="2800" spc="-1" strike="noStrike">
                <a:solidFill>
                  <a:srgbClr val="ff5050"/>
                </a:solidFill>
                <a:latin typeface="Times New Roman"/>
              </a:rPr>
              <a:t>mantissza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(fixpontos szá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hu-HU" sz="2800" spc="-1" strike="noStrike">
                <a:solidFill>
                  <a:srgbClr val="ff5050"/>
                </a:solidFill>
                <a:latin typeface="Times New Roman"/>
              </a:rPr>
              <a:t>karakterisztika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 a hatványkitevő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(fixpontos egész szá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hu-HU" sz="2800" spc="-1" strike="noStrike">
                <a:solidFill>
                  <a:srgbClr val="ff5050"/>
                </a:solidFill>
                <a:latin typeface="Times New Roman"/>
              </a:rPr>
              <a:t>radix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 a számrendszer alapszá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680" y="1951200"/>
            <a:ext cx="351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begőpontos szám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276720" y="5715000"/>
                <a:ext cx="20574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95280" y="2819520"/>
                <a:ext cx="16002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B7D-3BAA-415A-9C21-EF69906392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rmalizá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2057400"/>
            <a:ext cx="350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izálás (nullára)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57600" y="1752480"/>
                <a:ext cx="15382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3503520" y="3352680"/>
            <a:ext cx="393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izálás (egyesekre)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391520" y="3352680"/>
                <a:ext cx="14652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00200" y="4800600"/>
                <a:ext cx="5791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4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4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819520" y="2666880"/>
            <a:ext cx="304560" cy="2133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790960" y="3886200"/>
            <a:ext cx="2286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EC0-8FA7-46D4-8E3A-A9CE1473EF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2T06:12:32Z</dcterms:created>
  <dc:creator/>
  <dc:description/>
  <dc:language>en-US</dc:language>
  <cp:lastModifiedBy>Nagymáté Péter</cp:lastModifiedBy>
  <cp:lastPrinted>1999-02-02T12:06:11Z</cp:lastPrinted>
  <dcterms:modified xsi:type="dcterms:W3CDTF">2003-09-16T10:01:58Z</dcterms:modified>
  <cp:revision>82</cp:revision>
  <dc:subject/>
  <dc:title>2 tárolós egyszerű logikai gép vázlata („feltételes elágazás”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people.inf.elte.hu/istenes</vt:lpwstr>
  </property>
  <property fmtid="{D5CDD505-2E9C-101B-9397-08002B2CF9AE}" pid="9" name="LinkColor">
    <vt:r8>16711782</vt:r8>
  </property>
  <property fmtid="{D5CDD505-2E9C-101B-9397-08002B2CF9AE}" pid="10" name="MailAddress">
    <vt:lpwstr>istenes@inf.elte.h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okumentumok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